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61F-7DA8-4026-9AA2-3A557257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4C0-A3EF-4FF9-AEBD-A4C7F6B8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1EE-F770-46EE-B00D-7A1394BB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736-A301-47BF-8B8A-891B48AC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0F0-E399-4F56-9F18-58EBD7F3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A53-2107-4D6A-AEB3-2889BC88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E74-5C30-4AC8-88CF-C762218D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173-35D4-4285-9318-D4913514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03B-5ED4-446E-BB28-0F22904F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4D4-7102-46D3-8C45-62048184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083-F929-4F3C-B78A-64FAFF41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56A-9A14-4B3E-9220-17BEF7FC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BA27-1FB6-4493-95D4-7F9B9EDED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9900"/>
                </a:solidFill>
                <a:latin typeface="Arial"/>
              </a:rPr>
              <a:t>Counting down!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99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2:25:31Z</dcterms:created>
  <dc:creator>TEACHER</dc:creator>
  <dc:description/>
  <dc:language>en-US</dc:language>
  <cp:lastModifiedBy>Staff</cp:lastModifiedBy>
  <dcterms:modified xsi:type="dcterms:W3CDTF">2005-12-12T08:17:50Z</dcterms:modified>
  <cp:revision>1</cp:revision>
  <dc:subject/>
  <dc:title>Counting down! </dc:title>
</cp:coreProperties>
</file>