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CC0-87E1-47AA-A2A7-BCA19664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726-85D6-4C12-BEDB-6AF62D7C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FA5-12FC-4EC8-8074-641D513A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F48-D09E-451F-B1E1-C5915005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01A-EDE4-4C5D-9279-A83288C3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958-40E5-4818-8CB6-4AF120B3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F31-CEE3-4C88-BFA8-A02C3E85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D11-B813-4411-855A-40F32396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637-C4CC-475F-AF6C-E0935F6E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6D2-823F-4E07-95E2-C66C0D23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D2E-0672-4D77-9138-DF3CF1D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DED-1D38-4A39-B624-653565FE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7561-9516-4AFA-93BF-AC8CCD953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to 2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Staff</cp:lastModifiedBy>
  <dcterms:modified xsi:type="dcterms:W3CDTF">2006-01-09T15:36:48Z</dcterms:modified>
  <cp:revision>1</cp:revision>
  <dc:subject/>
  <dc:title>Counting to 25!</dc:title>
</cp:coreProperties>
</file>