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480-4B1E-41DB-B0DE-32484F88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1A9-3FC2-48B7-8321-44496BE2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C7D-C8FA-43CB-B553-4695F5B9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7EB-FE23-4E9D-B16A-BBB90BBA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456-31B0-4719-BB65-688F022E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6D4-CBF6-41DE-9724-79BA8D5C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3E7-BE00-43C8-919C-CA573DD9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304-6F52-44B1-83B0-2F96EC8F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827-61CF-4B7C-B1BA-C75EA5D3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1D9-4768-4494-9343-D1206AC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811-BC0B-4467-A76C-BC6C39B4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9FE-76B2-4643-9D06-66C9A9B2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B8C0-2BD3-49AD-B249-43EDD5C50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Counting in 10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0:50:16Z</dcterms:created>
  <dc:creator>TEACHER</dc:creator>
  <dc:description/>
  <dc:language>en-US</dc:language>
  <cp:lastModifiedBy>Staff</cp:lastModifiedBy>
  <dcterms:modified xsi:type="dcterms:W3CDTF">2007-01-17T07:40:27Z</dcterms:modified>
  <cp:revision>1</cp:revision>
  <dc:subject/>
  <dc:title>Counting in 10s</dc:title>
</cp:coreProperties>
</file>