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9D4-4004-4802-9C3F-A1EEDFB9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9E5-F426-4DC2-B83C-3FEB0170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D51-8D0D-42CB-9B3B-124DC1A2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119-6244-41BA-B1F9-F130DE1B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F3D-A0D7-4F1A-8174-309A552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28C-F80F-452E-993D-7B04FC1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B23-7DC9-4CF4-82EC-0419E592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A37-8DC3-462B-BECF-9BB8B87D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707-FC23-423C-A976-0040129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787-1354-4B40-A024-9F1A52D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B69-3E2D-4C24-B384-480C133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5D3-CA0D-40F9-85EE-D5FAE44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91E-3254-4D8D-8A77-338D18815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in 10s to 10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0:04:09Z</dcterms:created>
  <dc:creator>TEACHER</dc:creator>
  <dc:description/>
  <dc:language>en-US</dc:language>
  <cp:lastModifiedBy>Staff</cp:lastModifiedBy>
  <dcterms:modified xsi:type="dcterms:W3CDTF">2006-01-30T07:49:27Z</dcterms:modified>
  <cp:revision>1</cp:revision>
  <dc:subject/>
  <dc:title>Counting in 10s to 100!</dc:title>
</cp:coreProperties>
</file>