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317-EFDB-42D3-BE6F-5DC1E221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121-67B5-43EF-8A06-DE4BB25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FAA-8DF9-405C-B64A-75C5F730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4DD-D6AF-4E00-8F15-C2914668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FDC-6610-41FF-BF61-4890D3E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471-1E76-43C2-BCC4-DE345BF9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47A-C2E5-450D-8D8C-5C42AE0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91F-95D5-4B79-A0BC-6DE8A43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A79-7FA5-4A38-8FE7-B596BDB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A7B-9B22-4F4D-B0B2-2905FC2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F59-CB60-4ABC-9D52-418C296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2BF-D490-4CEC-94A0-65901CD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D34-91E6-44E3-BCD8-B94CDAA1C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10 and back to 0!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5:34:36Z</dcterms:created>
  <dc:creator>TEACHER</dc:creator>
  <dc:description/>
  <dc:language>en-US</dc:language>
  <cp:lastModifiedBy>TEACHER</cp:lastModifiedBy>
  <dcterms:modified xsi:type="dcterms:W3CDTF">2005-11-30T15:40:24Z</dcterms:modified>
  <cp:revision>1</cp:revision>
  <dc:subject/>
  <dc:title>Counting 10 and back to 0!  </dc:title>
</cp:coreProperties>
</file>