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E7A-A848-43BE-AA5D-86184C2D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42D-00FA-4686-95B8-8EE12826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24B-7BC5-4E0E-879E-2D97EAD4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951-C860-4553-963F-2E0FDB9B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1EB-1FD8-417E-B272-17420AC4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51C-62E7-4D73-8A0D-7D550263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251-9571-4F47-AFA3-29C7D6F8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42A-F763-4D6E-BA81-7770189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525-910B-4CD9-BD6C-57DA0843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259-9F0F-4DB6-85CC-09BF2087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51F-0DF6-443D-9268-426BE92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45E-EEAF-4D31-894F-DF99234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A387-A599-45EC-8FFB-351AF39B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7:51:06Z</dcterms:created>
  <dc:creator>Staff</dc:creator>
  <dc:description/>
  <dc:language>en-US</dc:language>
  <cp:lastModifiedBy>Staff</cp:lastModifiedBy>
  <dcterms:modified xsi:type="dcterms:W3CDTF">2005-11-24T07:56:11Z</dcterms:modified>
  <cp:revision>1</cp:revision>
  <dc:subject/>
  <dc:title>Counting down</dc:title>
</cp:coreProperties>
</file>