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8DC-DF5D-4828-88E1-33024E94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C77-DBD0-49CB-9E3F-DB42F7B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ACB-BEF3-4E4E-92A0-10AB134C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484-EE5A-48FC-A101-6DDD2709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6E7-648E-4F6E-9E25-F2A7AA5A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8A7-FFBB-4A46-86C3-BB84AF8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D37-B8F1-4984-AF1F-9C5A2B7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EF0-4009-43E8-88EE-5DB359EA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361-D657-411A-8389-5F70382B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B0F-F3AD-4ABB-9C5E-49CDE38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7BE-95EC-4BC5-80C7-78EB584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463-3406-4B41-8681-1AB0A6B0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35CC-9631-41D3-8628-EB058193E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to 10 and back to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57:38Z</dcterms:created>
  <dc:creator>Staff</dc:creator>
  <dc:description/>
  <dc:language>en-US</dc:language>
  <cp:lastModifiedBy>Staff</cp:lastModifiedBy>
  <dcterms:modified xsi:type="dcterms:W3CDTF">2005-12-05T08:02:24Z</dcterms:modified>
  <cp:revision>1</cp:revision>
  <dc:subject/>
  <dc:title>Counting to 10 and back to 0!</dc:title>
</cp:coreProperties>
</file>