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F82-B9E3-4A12-A4D6-87A84C09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031-BAB1-4682-ABBD-AD1E9D9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42F-DA40-4EE9-8114-F80EBE85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49B-4176-46A0-8F51-18A7F02F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AF6-B42F-406F-B7CE-5F7FA3F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B91-EDBD-416B-97A6-B3FABB3E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118-5407-4E1F-A7E3-356DE6C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3AA-B9A6-498F-AFCD-467DE76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9D3-03B4-4123-BFD2-6236291B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665-D36D-40BD-8E97-4426FE1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F49-4E0C-48F2-8256-82AF387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442-C37D-4A22-A9E4-C7BF3A9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7AC-60C7-456F-AE9E-A38D175C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ffcc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99ffcc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4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6-01-23T07:56:05Z</dcterms:modified>
  <cp:revision>2</cp:revision>
  <dc:subject/>
  <dc:title>Counting down! </dc:title>
</cp:coreProperties>
</file>