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5BD-DE28-4D05-A5F5-68C251E2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C47-7EF9-41F6-9027-5331F0B9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588-9309-4E05-AE71-1F3C2792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63D-AD59-4624-8763-CDC380AE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879-9562-44A4-9ABD-A8B5498E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F33-EFEC-4D01-975B-1A4BD6FD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CD4-4282-4464-82EF-B16ED340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8C0-42BB-4769-AC07-6890AA92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22C-FBC3-4AD6-8767-8CBB4B1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2EC-0690-45F2-B47D-CC998430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EDB-F414-431C-8F42-B180365C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96F-4DE4-45F1-9F18-92861F75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FB7B-CA82-4186-A30F-391493DEB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to 2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TEACHER</cp:lastModifiedBy>
  <dcterms:modified xsi:type="dcterms:W3CDTF">2008-05-29T09:12:42Z</dcterms:modified>
  <cp:revision>3</cp:revision>
  <dc:subject/>
  <dc:title>Counting to 25!</dc:title>
</cp:coreProperties>
</file>