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928-8B22-4345-8E36-0D5D5C56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883-ECFB-4424-B50A-A7AE4330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A3D-4D19-4FDE-8A54-85D019CA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831-E20C-41D4-AC39-8637401F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D15-D4CF-4C82-A1DD-5DF7C7D9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19E-C8F0-4A4C-94C3-11DDCCEB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5FE-C025-4153-BE6D-3926595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049-A078-43ED-B2AA-3A21DE95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759-9B9B-4AF8-BACA-8EC9CE10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247-4341-40A6-BD82-D4D342AC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C4F-F0C4-4745-A217-E246D753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2FC-438B-42A7-80EC-4B63E1BB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5510-0072-4FFA-AD4B-FC2D8CCC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Staff</cp:lastModifiedBy>
  <dcterms:modified xsi:type="dcterms:W3CDTF">2006-02-21T08:35:54Z</dcterms:modified>
  <cp:revision>2</cp:revision>
  <dc:subject/>
  <dc:title>Counting to 25!</dc:title>
</cp:coreProperties>
</file>