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679-3BA1-45C1-9340-709514C4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507-63D9-4FC0-A228-F2AB44FC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A25-8A0F-4842-B558-32AE253D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57F8-FC9B-45B6-BBA6-6A15EB42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F02-C2C8-4453-AC73-21CC60BA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CE5-B88F-476F-A559-A5A25469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8104-4A7E-42A0-BC4B-CD26D871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5A3-4E90-4CED-A3A7-7C4C4EF0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4D8-A421-4309-BF0C-E4C5D43B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4D6-5032-4A24-B306-588B3480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7D2-6BDB-4842-84A0-DAE3E4A5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596-037D-4155-95C2-D6F7D50E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FEB4-687C-4A07-8C8D-25E5A171E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in 2s to 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16:52:09Z</dcterms:created>
  <dc:creator>TEACHER</dc:creator>
  <dc:description/>
  <dc:language>en-US</dc:language>
  <cp:lastModifiedBy>TEACHER</cp:lastModifiedBy>
  <dcterms:modified xsi:type="dcterms:W3CDTF">2005-11-19T16:52:36Z</dcterms:modified>
  <cp:revision>1</cp:revision>
  <dc:subject/>
  <dc:title>Counting in 2s to 20</dc:title>
</cp:coreProperties>
</file>