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72F7-A9F2-4DA2-8B57-4F76071A2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132A-4E48-4D8E-A51B-8C5C10267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8D16-4376-4CBE-AE8E-9A05F3830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C6ED-734F-41B4-958C-0B7619113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1345-D648-4A09-B1EA-478906ADF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90D9-3856-469C-85EC-3CFAF28FD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43D1-AA99-4FA3-8617-67377978F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75B7-47EC-4F21-9E65-3C89193DB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12BF-41E6-4816-9673-C19FED239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E015-BB0F-4206-9CEE-BEC4133D4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C95D-60DF-4406-8C75-33C9F8FB3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9AE5-59D7-4936-9762-E66CCEBF3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2AAB9-EE11-479C-AD37-CAC2B71192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j0214098.wav" TargetMode="External"/><Relationship Id="rId2" Type="http://schemas.microsoft.com/office/2007/relationships/media" Target="file:///tmp/home/.config/libreoffice/4/user/gallery/j0214098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Counting in 3s to 30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5761080"/>
            <a:ext cx="9144000" cy="183805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92360" y="189000"/>
            <a:ext cx="6624720" cy="61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0" spc="-1" strike="noStrike">
                <a:solidFill>
                  <a:srgbClr val="000000"/>
                </a:solidFill>
                <a:latin typeface="Arial"/>
              </a:rPr>
              <a:t>Well done!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3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1T21:50:50Z</dcterms:created>
  <dc:creator>TEACHER</dc:creator>
  <dc:description/>
  <dc:language>en-US</dc:language>
  <cp:lastModifiedBy>TEACHER</cp:lastModifiedBy>
  <dcterms:modified xsi:type="dcterms:W3CDTF">2008-05-29T09:15:16Z</dcterms:modified>
  <cp:revision>4</cp:revision>
  <dc:subject/>
  <dc:title>Counting to 25!</dc:title>
</cp:coreProperties>
</file>